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34A-316C-4C5D-B8A0-00940C10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E91-9BF5-4C46-862A-85EFD5BD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82E-E477-48C0-B777-2C900771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7273-076B-4E97-9E1F-6855F5C4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E35-817C-4D50-AE66-3126B4B6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8B1-679E-4B74-B314-05D3A27C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957-4720-4D32-B984-0E2F2F2E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878-6D34-4FA0-8A6C-6104B510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31B-D179-4B05-BE88-A05D2E4B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F9D-BED9-4210-8B34-43A94362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03A-194F-4039-B4E7-E9D4821B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411-B927-488A-B864-F3B09A5E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95AB-76B7-40EE-A56D-8A8D7FC6C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228600"/>
            <a:ext cx="6324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aina Den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905120"/>
            <a:ext cx="3353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.K.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4572000"/>
            <a:ext cx="4419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ina D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295280" y="1066680"/>
            <a:ext cx="5943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e and a Homegirl,SAM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95280" y="380880"/>
            <a:ext cx="5715000" cy="17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oodBye..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52480" y="228600"/>
            <a:ext cx="556272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m Good AT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400" y="3276720"/>
            <a:ext cx="7086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.Braiding Hai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.Cook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.Sing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0"/>
            <a:ext cx="73911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My Favorite Website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66680" y="2590920"/>
            <a:ext cx="67057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Myspace.c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Yahoo.c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.Youtube.c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295280" y="304920"/>
            <a:ext cx="6629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Favorite Foods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2209680"/>
            <a:ext cx="52578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ried Chicken Strip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rkChop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ried Shrimps..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981080" y="152280"/>
            <a:ext cx="541044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Ten Years, I.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8381880" y="2819520"/>
            <a:ext cx="32194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uld be out of schoo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ving independently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king at the Hospit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rking as a registered nurse and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st but not least,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lping my family.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3200400"/>
            <a:ext cx="8315280" cy="24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ould be out of school living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ependently,working as a registered nurse at the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spital and helping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y family out...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80880" y="0"/>
            <a:ext cx="4800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y Favorite Artists/Rapper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33720" y="2590920"/>
            <a:ext cx="510516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ary J.Blid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Keyshia C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Z-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5105520"/>
            <a:ext cx="7867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I feel tha keep it so REAL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838080"/>
            <a:ext cx="4143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ne of my friends as a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OY.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43200" y="4343400"/>
            <a:ext cx="396252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arin Husba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152280"/>
            <a:ext cx="71625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y Favorite Teachers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38080" y="2362320"/>
            <a:ext cx="38862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rs.Le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rs.Webb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s.Guillor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52480" y="380880"/>
            <a:ext cx="5334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f I Could,I Would.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600" y="2666880"/>
            <a:ext cx="86104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elp The Homeles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ive My Family Everything They Wan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ke Back All Da Talking Bac I Gave My Parent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6:09:08Z</dcterms:created>
  <dc:creator>765892</dc:creator>
  <dc:description/>
  <dc:language>en-US</dc:language>
  <cp:lastModifiedBy>765892</cp:lastModifiedBy>
  <dcterms:modified xsi:type="dcterms:W3CDTF">2008-10-31T15:23:47Z</dcterms:modified>
  <cp:revision>16</cp:revision>
  <dc:subject/>
  <dc:title>Slide 1</dc:title>
</cp:coreProperties>
</file>